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62D0-A108-4BDF-A778-57EB6ADE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E0FB-DD76-4097-A145-652FDE74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6F69-2833-4C6C-A9FB-DB3FDFBA7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0EF2-D743-4B3E-B09F-721A05E72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B889-6A66-4AB6-A2C2-8EC626CA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2970-D93B-47CA-BE07-68079AEB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61B1-DECC-4241-90C8-6C4E5B62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5E2F-78B7-4C6F-8711-219E6838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A1A6-5875-4101-A223-03FEBB59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78AF-71E8-4A53-97C7-14A8F2AE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7476-6B93-4FF5-BDC4-A9FCC875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717D-61B9-4831-8A39-11D32913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51D5-F654-4DDE-A260-5AF46286E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34 Viac poznať Pána túžbu m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6ff33"/>
                </a:solidFill>
                <a:latin typeface="Arial"/>
              </a:rPr>
              <a:t>Viac poznať Pána túžbu mám,</a:t>
            </a:r>
            <a:br>
              <a:rPr sz="4500"/>
            </a:br>
            <a:r>
              <a:rPr b="1" lang="en-US" sz="4500" spc="-1" strike="noStrike">
                <a:solidFill>
                  <a:srgbClr val="66ff33"/>
                </a:solidFill>
                <a:latin typeface="Arial"/>
              </a:rPr>
              <a:t>chcem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500" spc="-1" strike="noStrike">
                <a:solidFill>
                  <a:srgbClr val="66ff33"/>
                </a:solidFill>
                <a:latin typeface="Arial"/>
              </a:rPr>
              <a:t>chodiť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500" spc="-1" strike="noStrike">
                <a:solidFill>
                  <a:srgbClr val="66ff33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500" spc="-1" strike="noStrike">
                <a:solidFill>
                  <a:srgbClr val="66ff33"/>
                </a:solidFill>
                <a:latin typeface="Arial"/>
              </a:rPr>
              <a:t>ním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500" spc="-1" strike="noStrike">
                <a:solidFill>
                  <a:srgbClr val="66ff33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500" spc="-1" strike="noStrike">
                <a:solidFill>
                  <a:srgbClr val="66ff33"/>
                </a:solidFill>
                <a:latin typeface="Arial"/>
              </a:rPr>
              <a:t>nikdy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500" spc="-1" strike="noStrike">
                <a:solidFill>
                  <a:srgbClr val="66ff33"/>
                </a:solidFill>
                <a:latin typeface="Arial"/>
              </a:rPr>
              <a:t>sám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;</a:t>
            </a:r>
            <a:br>
              <a:rPr sz="4500"/>
            </a:br>
            <a:r>
              <a:rPr b="1" lang="en-US" sz="4500" spc="-1" strike="noStrike">
                <a:solidFill>
                  <a:srgbClr val="66ff33"/>
                </a:solidFill>
                <a:latin typeface="Arial"/>
              </a:rPr>
              <a:t>keď jeho lásku pochopím,</a:t>
            </a:r>
            <a:br>
              <a:rPr sz="4500"/>
            </a:br>
            <a:r>
              <a:rPr b="1" lang="en-US" sz="4500" spc="-1" strike="noStrike">
                <a:solidFill>
                  <a:srgbClr val="66ff33"/>
                </a:solidFill>
                <a:latin typeface="Arial"/>
              </a:rPr>
              <a:t>viac z jeho krásy uvidím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viac poznať Pá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viac poznať Pán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jeho lásku pochop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ac z jeho krásy uvid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deň čo deň mi dáva zn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o mňa dbá, že má ma rád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 jeho lásky náruč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 neho viac sa nauč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viac poznať Pá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viac poznať Pán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jeho lásku pochop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ac z jeho krásy uvid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ac poznať Pán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Písma smiem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preto ho denne skúmať chcem,</a:t>
            </a:r>
            <a:br>
              <a:rPr sz="47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čujem z neho spásny hlas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iešnici, poďte, prijmem vá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viac poznať Pá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viac poznať Pán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jeho lásku pochop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ac z jeho krásy uvid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Pán mi dať môže viac než svet,</a:t>
            </a:r>
            <a:br>
              <a:rPr sz="47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acej než smiem si pomyslie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ozbroje všetky stíšiť v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rdcu pokoj dar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viac poznať Pá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viac poznať Pán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jeho lásku pochop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ac z jeho krásy uvidí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8T07:20:45Z</dcterms:modified>
  <cp:revision>20</cp:revision>
  <dc:subject/>
  <dc:title>Je veľký náš Pán, on slávy je Kráľ Nech do všetkých strán  spev vrúcnych znie chvál.</dc:title>
</cp:coreProperties>
</file>